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ahem_x.wav" TargetMode="External"/><Relationship Id="rId2" Type="http://schemas.openxmlformats.org/officeDocument/2006/relationships/image" Target="../media/image1.png"/><Relationship Id="rId3" Type="http://schemas.openxmlformats.org/officeDocument/2006/relationships/hyperlink" Target="file:///tmp/home/.config/libreoffice/4/user/gallery/duh.wav" TargetMode="External"/><Relationship Id="rId4" Type="http://schemas.openxmlformats.org/officeDocument/2006/relationships/image" Target="../media/image3.png"/><Relationship Id="rId5" Type="http://schemas.openxmlformats.org/officeDocument/2006/relationships/hyperlink" Target="file:///tmp/home/.config/libreoffice/4/user/gallery/evil-laugh.wav" TargetMode="External"/><Relationship Id="rId6" Type="http://schemas.openxmlformats.org/officeDocument/2006/relationships/image" Target="../media/image2.png"/><Relationship Id="rId7" Type="http://schemas.openxmlformats.org/officeDocument/2006/relationships/hyperlink" Target="file:///tmp/home/.config/libreoffice/4/user/gallery/horsewhinney.wav" TargetMode="External"/><Relationship Id="rId8" Type="http://schemas.openxmlformats.org/officeDocument/2006/relationships/image" Target="../media/image4.png"/><Relationship Id="rId9" Type="http://schemas.openxmlformats.org/officeDocument/2006/relationships/hyperlink" Target="file:///tmp/home/.config/libreoffice/4/user/gallery/stress-test.wav" TargetMode="External"/><Relationship Id="rId10" Type="http://schemas.openxmlformats.org/officeDocument/2006/relationships/image" Target="../media/image5.png"/><Relationship Id="rId11" Type="http://schemas.openxmlformats.org/officeDocument/2006/relationships/hyperlink" Target="file:///tmp/home/.config/libreoffice/4/user/gallery/heavenstobetsy.wav" TargetMode="External"/><Relationship Id="rId12" Type="http://schemas.openxmlformats.org/officeDocument/2006/relationships/image" Target="../media/image6.png"/><Relationship Id="rId13" Type="http://schemas.openxmlformats.org/officeDocument/2006/relationships/hyperlink" Target="file:///tmp/home/.config/libreoffice/4/user/gallery/time.wav" TargetMode="External"/><Relationship Id="rId14" Type="http://schemas.openxmlformats.org/officeDocument/2006/relationships/image" Target="../media/image7.png"/><Relationship Id="rId15" Type="http://schemas.openxmlformats.org/officeDocument/2006/relationships/hyperlink" Target="file:///tmp/home/.config/libreoffice/4/user/gallery/remember-short.wav" TargetMode="External"/><Relationship Id="rId16" Type="http://schemas.openxmlformats.org/officeDocument/2006/relationships/image" Target="../media/image8.png"/><Relationship Id="rId17" Type="http://schemas.openxmlformats.org/officeDocument/2006/relationships/hyperlink" Target="file:///tmp/home/.config/libreoffice/4/user/gallery/amusing.wav" TargetMode="External"/><Relationship Id="rId18" Type="http://schemas.openxmlformats.org/officeDocument/2006/relationships/image" Target="../media/image9.png"/><Relationship Id="rId1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 txBox="1"/>
          <p:nvPr/>
        </p:nvSpPr>
        <p:spPr>
          <a:xfrm>
            <a:off x="958680" y="2757600"/>
            <a:ext cx="6989760" cy="2317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E.P. Squares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7" name=""/>
          <p:cNvSpPr/>
          <p:nvPr/>
        </p:nvSpPr>
        <p:spPr>
          <a:xfrm>
            <a:off x="2181600" y="1166760"/>
            <a:ext cx="477108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3333cc"/>
                </a:solidFill>
                <a:latin typeface="Arial"/>
              </a:rPr>
              <a:t>Welcome to...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"/>
          <p:cNvSpPr/>
          <p:nvPr/>
        </p:nvSpPr>
        <p:spPr>
          <a:xfrm>
            <a:off x="836280" y="5638680"/>
            <a:ext cx="781596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3333cc"/>
                </a:solidFill>
                <a:latin typeface="Arial"/>
              </a:rPr>
              <a:t>A Game of X’s and O’s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500"/>
                            </p:stCondLst>
                            <p:childTnLst>
                              <p:par>
                                <p:cTn id="9" nodeType="afterEffect" fill="hold" presetClass="entr" presetID="19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0" fill="hold"/>
                                        <p:tgtEl>
                                          <p:spTgt spid="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0" fill="hold"/>
                                        <p:tgtEl>
                                          <p:spTgt spid="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7500"/>
                            </p:stCondLst>
                            <p:childTnLst>
                              <p:par>
                                <p:cTn id="14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935000" y="246240"/>
            <a:ext cx="4851720" cy="507816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960560" y="2747880"/>
            <a:ext cx="4791240" cy="25686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861160" y="246240"/>
            <a:ext cx="895320" cy="779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828720" y="5818320"/>
            <a:ext cx="763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14 x 3 + 14 -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rcRect l="0" t="0" r="-3758" b="12510"/>
          <a:stretch/>
        </p:blipFill>
        <p:spPr>
          <a:xfrm>
            <a:off x="3200400" y="542880"/>
            <a:ext cx="2514600" cy="22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75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1935000" y="246240"/>
            <a:ext cx="4851720" cy="507816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960560" y="2747880"/>
            <a:ext cx="4791240" cy="25686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861160" y="246240"/>
            <a:ext cx="895320" cy="779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828720" y="5818320"/>
            <a:ext cx="763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5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>
            <a:hlinkClick r:id="rId1" action="ppaction://hlinksldjump"/>
          </p:cNvPr>
          <p:cNvSpPr/>
          <p:nvPr/>
        </p:nvSpPr>
        <p:spPr>
          <a:xfrm>
            <a:off x="52560" y="6012000"/>
            <a:ext cx="1217520" cy="793440"/>
          </a:xfrm>
          <a:prstGeom prst="leftArrow">
            <a:avLst>
              <a:gd name="adj1" fmla="val 52796"/>
              <a:gd name="adj2" fmla="val 66622"/>
            </a:avLst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rcRect l="0" t="0" r="-3758" b="12510"/>
          <a:stretch/>
        </p:blipFill>
        <p:spPr>
          <a:xfrm>
            <a:off x="3200400" y="542880"/>
            <a:ext cx="2514600" cy="22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75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963800" y="246240"/>
            <a:ext cx="4780080" cy="504324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974960" y="2760840"/>
            <a:ext cx="4711680" cy="24984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889600" y="246240"/>
            <a:ext cx="808200" cy="779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38080" y="5410080"/>
            <a:ext cx="7639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rry began exercising at 9:15 A.M. He finished exercising at 10:47 A.M. and did not take any breaks. How many minutes did Larry exercis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rcRect l="0" t="0" r="-7744" b="36367"/>
          <a:stretch/>
        </p:blipFill>
        <p:spPr>
          <a:xfrm>
            <a:off x="3505320" y="752400"/>
            <a:ext cx="2133360" cy="19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75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963800" y="246240"/>
            <a:ext cx="4780080" cy="504324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974960" y="2760840"/>
            <a:ext cx="4711680" cy="24984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889600" y="246240"/>
            <a:ext cx="808200" cy="779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828720" y="5818320"/>
            <a:ext cx="763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9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>
            <a:hlinkClick r:id="rId1" action="ppaction://hlinksldjump"/>
          </p:cNvPr>
          <p:cNvSpPr/>
          <p:nvPr/>
        </p:nvSpPr>
        <p:spPr>
          <a:xfrm>
            <a:off x="52560" y="6012000"/>
            <a:ext cx="1217520" cy="793440"/>
          </a:xfrm>
          <a:prstGeom prst="leftArrow">
            <a:avLst>
              <a:gd name="adj1" fmla="val 52796"/>
              <a:gd name="adj2" fmla="val 66622"/>
            </a:avLst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2"/>
          <a:srcRect l="0" t="0" r="-7744" b="36367"/>
          <a:stretch/>
        </p:blipFill>
        <p:spPr>
          <a:xfrm>
            <a:off x="3505320" y="752400"/>
            <a:ext cx="2133360" cy="19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75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1990800" y="281160"/>
            <a:ext cx="4709880" cy="495612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036880" y="2711520"/>
            <a:ext cx="4655880" cy="25272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3440" y="281160"/>
            <a:ext cx="928800" cy="779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828720" y="5818320"/>
            <a:ext cx="7638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at is the name of an angle that measures over 180 degre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rcRect l="0" t="0" r="-25774" b="50108"/>
          <a:stretch/>
        </p:blipFill>
        <p:spPr>
          <a:xfrm>
            <a:off x="3657600" y="414360"/>
            <a:ext cx="20066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75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1990800" y="281160"/>
            <a:ext cx="4709880" cy="495612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036880" y="2711520"/>
            <a:ext cx="4655880" cy="25272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743440" y="281160"/>
            <a:ext cx="928800" cy="779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8720" y="5818320"/>
            <a:ext cx="763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tu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>
            <a:hlinkClick r:id="rId1" action="ppaction://hlinksldjump"/>
          </p:cNvPr>
          <p:cNvSpPr/>
          <p:nvPr/>
        </p:nvSpPr>
        <p:spPr>
          <a:xfrm>
            <a:off x="52560" y="6012000"/>
            <a:ext cx="1217520" cy="793440"/>
          </a:xfrm>
          <a:prstGeom prst="leftArrow">
            <a:avLst>
              <a:gd name="adj1" fmla="val 52796"/>
              <a:gd name="adj2" fmla="val 66622"/>
            </a:avLst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2"/>
          <a:srcRect l="0" t="0" r="-25774" b="50108"/>
          <a:stretch/>
        </p:blipFill>
        <p:spPr>
          <a:xfrm>
            <a:off x="3657600" y="414360"/>
            <a:ext cx="20066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75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2023920" y="291960"/>
            <a:ext cx="4638960" cy="492156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025720" y="2668680"/>
            <a:ext cx="4640040" cy="25081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023920" y="291960"/>
            <a:ext cx="789120" cy="779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62120" y="5410080"/>
            <a:ext cx="7638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ikki is making chocolate chip brownies. The recipe calls for 21 ounces of chocolate chips.  What is the weight of the chocolate chips Nikki should buy to make the brownie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3352680" y="608040"/>
            <a:ext cx="2210040" cy="21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75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2023920" y="291960"/>
            <a:ext cx="4638960" cy="492156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025720" y="2668680"/>
            <a:ext cx="4640040" cy="25081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023920" y="291960"/>
            <a:ext cx="789120" cy="779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828720" y="5818320"/>
            <a:ext cx="763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1 Pound 5 Ounc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>
            <a:hlinkClick r:id="rId1" action="ppaction://hlinksldjump"/>
          </p:cNvPr>
          <p:cNvSpPr/>
          <p:nvPr/>
        </p:nvSpPr>
        <p:spPr>
          <a:xfrm>
            <a:off x="52560" y="6012000"/>
            <a:ext cx="1217520" cy="793440"/>
          </a:xfrm>
          <a:prstGeom prst="leftArrow">
            <a:avLst>
              <a:gd name="adj1" fmla="val 52796"/>
              <a:gd name="adj2" fmla="val 66622"/>
            </a:avLst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2"/>
          <a:stretch/>
        </p:blipFill>
        <p:spPr>
          <a:xfrm>
            <a:off x="3352680" y="608040"/>
            <a:ext cx="2210040" cy="21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75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2052720" y="309600"/>
            <a:ext cx="4586040" cy="486720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043000" y="2689200"/>
            <a:ext cx="4557960" cy="24811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052720" y="309600"/>
            <a:ext cx="828720" cy="779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28720" y="5818320"/>
            <a:ext cx="763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9y = 45 What is the value of y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rcRect l="0" t="0" r="0" b="25000"/>
          <a:stretch/>
        </p:blipFill>
        <p:spPr>
          <a:xfrm>
            <a:off x="2743200" y="209520"/>
            <a:ext cx="3276720" cy="24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0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75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052720" y="309600"/>
            <a:ext cx="4586040" cy="486720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043000" y="2689200"/>
            <a:ext cx="4557960" cy="24811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052720" y="309600"/>
            <a:ext cx="828720" cy="779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828720" y="5818320"/>
            <a:ext cx="763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2560" y="6012000"/>
            <a:ext cx="1217520" cy="793440"/>
          </a:xfrm>
          <a:prstGeom prst="leftArrow">
            <a:avLst>
              <a:gd name="adj1" fmla="val 52796"/>
              <a:gd name="adj2" fmla="val 66622"/>
            </a:avLst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rcRect l="0" t="0" r="0" b="25000"/>
          <a:stretch/>
        </p:blipFill>
        <p:spPr>
          <a:xfrm>
            <a:off x="2743200" y="209520"/>
            <a:ext cx="3276720" cy="24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75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1295280" y="0"/>
            <a:ext cx="7005600" cy="68580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1371600" y="2362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1371600" y="4648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657600" y="76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657600" y="2362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657600" y="4648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943600" y="76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943600" y="2362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3600" y="4648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371600" y="76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978520" y="5691240"/>
            <a:ext cx="2077920" cy="1057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648320"/>
            <a:ext cx="53352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657600" y="4648320"/>
            <a:ext cx="53352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943600" y="4648320"/>
            <a:ext cx="53352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943360" y="2362320"/>
            <a:ext cx="53316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229360" y="2362320"/>
            <a:ext cx="53316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515360" y="2362320"/>
            <a:ext cx="53316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76320"/>
            <a:ext cx="53352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657600" y="76320"/>
            <a:ext cx="53352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43600" y="76320"/>
            <a:ext cx="53352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2165400" y="76320"/>
            <a:ext cx="914400" cy="12952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395360" y="1147680"/>
            <a:ext cx="2068560" cy="1057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6095880" y="0"/>
            <a:ext cx="1905120" cy="16383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5965920" y="1143000"/>
            <a:ext cx="2087640" cy="1057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4348080" y="76320"/>
            <a:ext cx="895320" cy="19810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3692520" y="1160640"/>
            <a:ext cx="2068560" cy="10569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1600200" y="2286000"/>
            <a:ext cx="1320840" cy="13716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371600" y="3413160"/>
            <a:ext cx="2130480" cy="1057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4114800" y="2438280"/>
            <a:ext cx="1060560" cy="16765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3662280" y="3425760"/>
            <a:ext cx="2103480" cy="1057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6"/>
          <a:srcRect l="0" t="0" r="-25774" b="50108"/>
          <a:stretch/>
        </p:blipFill>
        <p:spPr>
          <a:xfrm>
            <a:off x="6477120" y="2367000"/>
            <a:ext cx="1066680" cy="12142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5964120" y="3408480"/>
            <a:ext cx="2070360" cy="1057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7"/>
          <a:stretch/>
        </p:blipFill>
        <p:spPr>
          <a:xfrm>
            <a:off x="1752480" y="4548240"/>
            <a:ext cx="1428840" cy="13953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1413000" y="5678640"/>
            <a:ext cx="2044440" cy="10569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8"/>
          <a:stretch/>
        </p:blipFill>
        <p:spPr>
          <a:xfrm>
            <a:off x="4038480" y="4419720"/>
            <a:ext cx="1676520" cy="167616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3686040" y="5691240"/>
            <a:ext cx="2087640" cy="1057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9"/>
          <a:stretch/>
        </p:blipFill>
        <p:spPr>
          <a:xfrm>
            <a:off x="6553080" y="4572000"/>
            <a:ext cx="879480" cy="113364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 txBox="1"/>
          <p:nvPr/>
        </p:nvSpPr>
        <p:spPr>
          <a:xfrm>
            <a:off x="2666880" y="2438280"/>
            <a:ext cx="46609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Maude L.T. Ford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2971800" y="2209680"/>
            <a:ext cx="412740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Al Beback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2590920" y="2133720"/>
            <a:ext cx="46479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Paige Turner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3048120" y="2286000"/>
            <a:ext cx="38988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Skip Roper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2362320" y="2286000"/>
            <a:ext cx="45846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Carrie Oki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2743200" y="2286000"/>
            <a:ext cx="405144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Dr. E. Ville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2895480" y="2209680"/>
            <a:ext cx="4356360" cy="1074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Hazel Nutt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2895480" y="2286000"/>
            <a:ext cx="42037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Pearly White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2654280" y="2125800"/>
            <a:ext cx="4584600" cy="137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Starring: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2666880" y="2286000"/>
            <a:ext cx="458496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Justin Time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0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2114640" y="326880"/>
            <a:ext cx="4567320" cy="486756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100240" y="2706840"/>
            <a:ext cx="4537080" cy="24811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114640" y="326880"/>
            <a:ext cx="841320" cy="779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5410080"/>
            <a:ext cx="7638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sa made a list of all the ages of kids on her block.  The ages are 2,2,2,3,3,5,6,6,7,7,9,10, 12, 14 and 14.  What is the mode of this set of dat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3505320" y="557280"/>
            <a:ext cx="165420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0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75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2114640" y="326880"/>
            <a:ext cx="4567320" cy="486756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100240" y="2706840"/>
            <a:ext cx="4537080" cy="24811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114640" y="326880"/>
            <a:ext cx="841320" cy="779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828720" y="5818320"/>
            <a:ext cx="763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2560" y="6012000"/>
            <a:ext cx="1217520" cy="793440"/>
          </a:xfrm>
          <a:prstGeom prst="leftArrow">
            <a:avLst>
              <a:gd name="adj1" fmla="val 52796"/>
              <a:gd name="adj2" fmla="val 66622"/>
            </a:avLst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3505320" y="557280"/>
            <a:ext cx="165420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0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75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1371600" y="1828800"/>
            <a:ext cx="624852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ONGRATULATIONS!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685800" y="0"/>
            <a:ext cx="7647120" cy="6858000"/>
            <a:chOff x="685800" y="0"/>
            <a:chExt cx="7647120" cy="6858000"/>
          </a:xfrm>
        </p:grpSpPr>
        <p:sp>
          <p:nvSpPr>
            <p:cNvPr id="251" name=""/>
            <p:cNvSpPr txBox="1"/>
            <p:nvPr/>
          </p:nvSpPr>
          <p:spPr>
            <a:xfrm>
              <a:off x="685800" y="1143000"/>
              <a:ext cx="712800" cy="779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00"/>
                      </a:gs>
                      <a:gs pos="50000">
                        <a:srgbClr val="ff9900"/>
                      </a:gs>
                      <a:gs pos="100000">
                        <a:srgbClr val="ffff00"/>
                      </a:gs>
                    </a:gsLst>
                    <a:lin ang="5400000"/>
                  </a:gradFill>
                  <a:latin typeface="Arial Black"/>
                </a:rPr>
                <a:t>X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50000">
                      <a:srgbClr val="ff99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52" name=""/>
            <p:cNvSpPr txBox="1"/>
            <p:nvPr/>
          </p:nvSpPr>
          <p:spPr>
            <a:xfrm>
              <a:off x="2438280" y="1371600"/>
              <a:ext cx="487440" cy="533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50000">
                        <a:srgbClr val="00ff00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atin typeface="Arial Black"/>
                </a:rPr>
                <a:t>X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00ff00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53" name=""/>
            <p:cNvSpPr txBox="1"/>
            <p:nvPr/>
          </p:nvSpPr>
          <p:spPr>
            <a:xfrm>
              <a:off x="4419720" y="0"/>
              <a:ext cx="914400" cy="1066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50000">
                        <a:srgbClr val="3333cc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atin typeface="Arial Black"/>
                </a:rPr>
                <a:t>X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3333cc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54" name=""/>
            <p:cNvSpPr txBox="1"/>
            <p:nvPr/>
          </p:nvSpPr>
          <p:spPr>
            <a:xfrm>
              <a:off x="1828800" y="228600"/>
              <a:ext cx="457200" cy="533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66ff"/>
                      </a:gs>
                      <a:gs pos="50000">
                        <a:srgbClr val="ff3300"/>
                      </a:gs>
                      <a:gs pos="100000">
                        <a:srgbClr val="ff66ff"/>
                      </a:gs>
                    </a:gsLst>
                    <a:lin ang="5400000"/>
                  </a:gradFill>
                  <a:latin typeface="Arial Black"/>
                </a:rPr>
                <a:t>X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66ff"/>
                    </a:gs>
                    <a:gs pos="50000">
                      <a:srgbClr val="ff3300"/>
                    </a:gs>
                    <a:gs pos="100000">
                      <a:srgbClr val="ff66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55" name=""/>
            <p:cNvSpPr txBox="1"/>
            <p:nvPr/>
          </p:nvSpPr>
          <p:spPr>
            <a:xfrm>
              <a:off x="4800600" y="4800600"/>
              <a:ext cx="712800" cy="779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50000">
                        <a:srgbClr val="00ff00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atin typeface="Arial Black"/>
                </a:rPr>
                <a:t>X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00ff00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56" name=""/>
            <p:cNvSpPr txBox="1"/>
            <p:nvPr/>
          </p:nvSpPr>
          <p:spPr>
            <a:xfrm>
              <a:off x="5943600" y="6324480"/>
              <a:ext cx="487440" cy="533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00"/>
                      </a:gs>
                      <a:gs pos="50000">
                        <a:srgbClr val="ff9900"/>
                      </a:gs>
                      <a:gs pos="100000">
                        <a:srgbClr val="ffff00"/>
                      </a:gs>
                    </a:gsLst>
                    <a:lin ang="5400000"/>
                  </a:gradFill>
                  <a:latin typeface="Arial Black"/>
                </a:rPr>
                <a:t>X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50000">
                      <a:srgbClr val="ff99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57" name=""/>
            <p:cNvSpPr txBox="1"/>
            <p:nvPr/>
          </p:nvSpPr>
          <p:spPr>
            <a:xfrm>
              <a:off x="6400800" y="4114800"/>
              <a:ext cx="914400" cy="1066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66ff"/>
                      </a:gs>
                      <a:gs pos="50000">
                        <a:srgbClr val="ff3300"/>
                      </a:gs>
                      <a:gs pos="100000">
                        <a:srgbClr val="ff66ff"/>
                      </a:gs>
                    </a:gsLst>
                    <a:lin ang="5400000"/>
                  </a:gradFill>
                  <a:latin typeface="Arial Black"/>
                </a:rPr>
                <a:t>X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66ff"/>
                    </a:gs>
                    <a:gs pos="50000">
                      <a:srgbClr val="ff3300"/>
                    </a:gs>
                    <a:gs pos="100000">
                      <a:srgbClr val="ff66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58" name=""/>
            <p:cNvSpPr txBox="1"/>
            <p:nvPr/>
          </p:nvSpPr>
          <p:spPr>
            <a:xfrm>
              <a:off x="4343400" y="6324480"/>
              <a:ext cx="457200" cy="533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50000">
                        <a:srgbClr val="3333cc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atin typeface="Arial Black"/>
                </a:rPr>
                <a:t>X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3333cc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59" name=""/>
            <p:cNvSpPr txBox="1"/>
            <p:nvPr/>
          </p:nvSpPr>
          <p:spPr>
            <a:xfrm>
              <a:off x="7620120" y="5791320"/>
              <a:ext cx="712800" cy="779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50000">
                        <a:srgbClr val="ffff00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atin typeface="Arial Black"/>
                </a:rPr>
                <a:t>X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ffff00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60" name=""/>
            <p:cNvSpPr txBox="1"/>
            <p:nvPr/>
          </p:nvSpPr>
          <p:spPr>
            <a:xfrm>
              <a:off x="3048120" y="5410080"/>
              <a:ext cx="712800" cy="779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990000"/>
                      </a:gs>
                      <a:gs pos="50000">
                        <a:srgbClr val="ff9900"/>
                      </a:gs>
                      <a:gs pos="100000">
                        <a:srgbClr val="990000"/>
                      </a:gs>
                    </a:gsLst>
                    <a:lin ang="5400000"/>
                  </a:gradFill>
                  <a:latin typeface="Arial Black"/>
                </a:rPr>
                <a:t>X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0000"/>
                    </a:gs>
                    <a:gs pos="50000">
                      <a:srgbClr val="ff9900"/>
                    </a:gs>
                    <a:gs pos="100000">
                      <a:srgbClr val="990000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61" name=""/>
            <p:cNvSpPr txBox="1"/>
            <p:nvPr/>
          </p:nvSpPr>
          <p:spPr>
            <a:xfrm>
              <a:off x="6248520" y="1219320"/>
              <a:ext cx="407880" cy="474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990000"/>
                      </a:gs>
                      <a:gs pos="50000">
                        <a:srgbClr val="ff9900"/>
                      </a:gs>
                      <a:gs pos="100000">
                        <a:srgbClr val="990000"/>
                      </a:gs>
                    </a:gsLst>
                    <a:lin ang="5400000"/>
                  </a:gradFill>
                  <a:latin typeface="Arial Black"/>
                </a:rPr>
                <a:t>X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0000"/>
                    </a:gs>
                    <a:gs pos="50000">
                      <a:srgbClr val="ff9900"/>
                    </a:gs>
                    <a:gs pos="100000">
                      <a:srgbClr val="990000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62" name=""/>
            <p:cNvSpPr txBox="1"/>
            <p:nvPr/>
          </p:nvSpPr>
          <p:spPr>
            <a:xfrm>
              <a:off x="7467480" y="380880"/>
              <a:ext cx="865440" cy="914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50000">
                        <a:srgbClr val="ffff00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atin typeface="Arial Black"/>
                </a:rPr>
                <a:t>X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ffff00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</p:grpSp>
      <p:sp>
        <p:nvSpPr>
          <p:cNvPr id="263" name=""/>
          <p:cNvSpPr txBox="1"/>
          <p:nvPr/>
        </p:nvSpPr>
        <p:spPr>
          <a:xfrm>
            <a:off x="1371600" y="1828800"/>
            <a:ext cx="624852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cc99"/>
                    </a:gs>
                    <a:gs pos="100000">
                      <a:srgbClr val="ff66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ONGRATULATIONS!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cc99"/>
                  </a:gs>
                  <a:gs pos="100000">
                    <a:srgbClr val="ff66ff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1371600" y="1828800"/>
            <a:ext cx="624852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ff9900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ONGRATULATIONS!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ff9900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0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500"/>
                            </p:stCondLst>
                            <p:childTnLst>
                              <p:par>
                                <p:cTn id="26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1000"/>
                            </p:stCondLst>
                            <p:childTnLst>
                              <p:par>
                                <p:cTn id="269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1500"/>
                            </p:stCondLst>
                            <p:childTnLst>
                              <p:par>
                                <p:cTn id="276" nodeType="afterEffect" fill="hold" presetClass="entr" presetID="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 txBox="1"/>
          <p:nvPr/>
        </p:nvSpPr>
        <p:spPr>
          <a:xfrm>
            <a:off x="1371600" y="1828800"/>
            <a:ext cx="624852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ONGRATULATIONS!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685800" y="0"/>
            <a:ext cx="7647120" cy="6858000"/>
            <a:chOff x="685800" y="0"/>
            <a:chExt cx="7647120" cy="6858000"/>
          </a:xfrm>
        </p:grpSpPr>
        <p:sp>
          <p:nvSpPr>
            <p:cNvPr id="267" name=""/>
            <p:cNvSpPr txBox="1"/>
            <p:nvPr/>
          </p:nvSpPr>
          <p:spPr>
            <a:xfrm>
              <a:off x="685800" y="1143000"/>
              <a:ext cx="712800" cy="779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00"/>
                      </a:gs>
                      <a:gs pos="50000">
                        <a:srgbClr val="ff9900"/>
                      </a:gs>
                      <a:gs pos="100000">
                        <a:srgbClr val="ffff00"/>
                      </a:gs>
                    </a:gsLst>
                    <a:lin ang="5400000"/>
                  </a:gradFill>
                  <a:latin typeface="Arial Black"/>
                </a:rPr>
                <a:t>O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50000">
                      <a:srgbClr val="ff99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68" name=""/>
            <p:cNvSpPr txBox="1"/>
            <p:nvPr/>
          </p:nvSpPr>
          <p:spPr>
            <a:xfrm>
              <a:off x="2438280" y="1371600"/>
              <a:ext cx="487440" cy="533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50000">
                        <a:srgbClr val="00ff00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atin typeface="Arial Black"/>
                </a:rPr>
                <a:t>O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00ff00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69" name=""/>
            <p:cNvSpPr txBox="1"/>
            <p:nvPr/>
          </p:nvSpPr>
          <p:spPr>
            <a:xfrm>
              <a:off x="4419720" y="0"/>
              <a:ext cx="914400" cy="1066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50000">
                        <a:srgbClr val="3333cc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atin typeface="Arial Black"/>
                </a:rPr>
                <a:t>O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3333cc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70" name=""/>
            <p:cNvSpPr txBox="1"/>
            <p:nvPr/>
          </p:nvSpPr>
          <p:spPr>
            <a:xfrm>
              <a:off x="1828800" y="228600"/>
              <a:ext cx="457200" cy="533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66ff"/>
                      </a:gs>
                      <a:gs pos="50000">
                        <a:srgbClr val="ff3300"/>
                      </a:gs>
                      <a:gs pos="100000">
                        <a:srgbClr val="ff66ff"/>
                      </a:gs>
                    </a:gsLst>
                    <a:lin ang="5400000"/>
                  </a:gradFill>
                  <a:latin typeface="Arial Black"/>
                </a:rPr>
                <a:t>O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66ff"/>
                    </a:gs>
                    <a:gs pos="50000">
                      <a:srgbClr val="ff3300"/>
                    </a:gs>
                    <a:gs pos="100000">
                      <a:srgbClr val="ff66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71" name=""/>
            <p:cNvSpPr txBox="1"/>
            <p:nvPr/>
          </p:nvSpPr>
          <p:spPr>
            <a:xfrm>
              <a:off x="4800600" y="4800600"/>
              <a:ext cx="712800" cy="779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50000">
                        <a:srgbClr val="00ff00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atin typeface="Arial Black"/>
                </a:rPr>
                <a:t>O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00ff00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72" name=""/>
            <p:cNvSpPr txBox="1"/>
            <p:nvPr/>
          </p:nvSpPr>
          <p:spPr>
            <a:xfrm>
              <a:off x="5943600" y="6324480"/>
              <a:ext cx="487440" cy="533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00"/>
                      </a:gs>
                      <a:gs pos="50000">
                        <a:srgbClr val="ff9900"/>
                      </a:gs>
                      <a:gs pos="100000">
                        <a:srgbClr val="ffff00"/>
                      </a:gs>
                    </a:gsLst>
                    <a:lin ang="5400000"/>
                  </a:gradFill>
                  <a:latin typeface="Arial Black"/>
                </a:rPr>
                <a:t>O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50000">
                      <a:srgbClr val="ff99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73" name=""/>
            <p:cNvSpPr txBox="1"/>
            <p:nvPr/>
          </p:nvSpPr>
          <p:spPr>
            <a:xfrm>
              <a:off x="6400800" y="4114800"/>
              <a:ext cx="914400" cy="1066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66ff"/>
                      </a:gs>
                      <a:gs pos="50000">
                        <a:srgbClr val="ff3300"/>
                      </a:gs>
                      <a:gs pos="100000">
                        <a:srgbClr val="ff66ff"/>
                      </a:gs>
                    </a:gsLst>
                    <a:lin ang="5400000"/>
                  </a:gradFill>
                  <a:latin typeface="Arial Black"/>
                </a:rPr>
                <a:t>O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66ff"/>
                    </a:gs>
                    <a:gs pos="50000">
                      <a:srgbClr val="ff3300"/>
                    </a:gs>
                    <a:gs pos="100000">
                      <a:srgbClr val="ff66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74" name=""/>
            <p:cNvSpPr txBox="1"/>
            <p:nvPr/>
          </p:nvSpPr>
          <p:spPr>
            <a:xfrm>
              <a:off x="4343400" y="6324480"/>
              <a:ext cx="457200" cy="533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50000">
                        <a:srgbClr val="3333cc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atin typeface="Arial Black"/>
                </a:rPr>
                <a:t>O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3333cc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75" name=""/>
            <p:cNvSpPr txBox="1"/>
            <p:nvPr/>
          </p:nvSpPr>
          <p:spPr>
            <a:xfrm>
              <a:off x="7620120" y="5791320"/>
              <a:ext cx="712800" cy="779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50000">
                        <a:srgbClr val="ffff00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atin typeface="Arial Black"/>
                </a:rPr>
                <a:t>O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ffff00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76" name=""/>
            <p:cNvSpPr txBox="1"/>
            <p:nvPr/>
          </p:nvSpPr>
          <p:spPr>
            <a:xfrm>
              <a:off x="3048120" y="5410080"/>
              <a:ext cx="712800" cy="779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990000"/>
                      </a:gs>
                      <a:gs pos="50000">
                        <a:srgbClr val="ff9900"/>
                      </a:gs>
                      <a:gs pos="100000">
                        <a:srgbClr val="990000"/>
                      </a:gs>
                    </a:gsLst>
                    <a:lin ang="5400000"/>
                  </a:gradFill>
                  <a:latin typeface="Arial Black"/>
                </a:rPr>
                <a:t>O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0000"/>
                    </a:gs>
                    <a:gs pos="50000">
                      <a:srgbClr val="ff9900"/>
                    </a:gs>
                    <a:gs pos="100000">
                      <a:srgbClr val="990000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77" name=""/>
            <p:cNvSpPr txBox="1"/>
            <p:nvPr/>
          </p:nvSpPr>
          <p:spPr>
            <a:xfrm>
              <a:off x="6248520" y="1219320"/>
              <a:ext cx="407880" cy="474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990000"/>
                      </a:gs>
                      <a:gs pos="50000">
                        <a:srgbClr val="ff9900"/>
                      </a:gs>
                      <a:gs pos="100000">
                        <a:srgbClr val="990000"/>
                      </a:gs>
                    </a:gsLst>
                    <a:lin ang="5400000"/>
                  </a:gradFill>
                  <a:latin typeface="Arial Black"/>
                </a:rPr>
                <a:t>O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0000"/>
                    </a:gs>
                    <a:gs pos="50000">
                      <a:srgbClr val="ff9900"/>
                    </a:gs>
                    <a:gs pos="100000">
                      <a:srgbClr val="990000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78" name=""/>
            <p:cNvSpPr txBox="1"/>
            <p:nvPr/>
          </p:nvSpPr>
          <p:spPr>
            <a:xfrm>
              <a:off x="7467480" y="380880"/>
              <a:ext cx="865440" cy="914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50000">
                        <a:srgbClr val="ffff00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atin typeface="Arial Black"/>
                </a:rPr>
                <a:t>O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ffff00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</p:grpSp>
      <p:sp>
        <p:nvSpPr>
          <p:cNvPr id="279" name=""/>
          <p:cNvSpPr txBox="1"/>
          <p:nvPr/>
        </p:nvSpPr>
        <p:spPr>
          <a:xfrm>
            <a:off x="1371600" y="1828800"/>
            <a:ext cx="624852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cc99"/>
                    </a:gs>
                    <a:gs pos="100000">
                      <a:srgbClr val="ff66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ONGRATULATIONS!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cc99"/>
                  </a:gs>
                  <a:gs pos="100000">
                    <a:srgbClr val="ff66ff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1371600" y="1828800"/>
            <a:ext cx="624852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ff9900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ONGRATULATIONS!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ff9900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0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500"/>
                            </p:stCondLst>
                            <p:childTnLst>
                              <p:par>
                                <p:cTn id="291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1000"/>
                            </p:stCondLst>
                            <p:childTnLst>
                              <p:par>
                                <p:cTn id="298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500"/>
                            </p:stCondLst>
                            <p:childTnLst>
                              <p:par>
                                <p:cTn id="305" nodeType="afterEffect" fill="hold" presetClass="entr" presetID="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380880" y="762120"/>
            <a:ext cx="1219320" cy="152388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133720" y="0"/>
            <a:ext cx="7005600" cy="68580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09680" y="2362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209680" y="4648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495680" y="76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495680" y="2362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495680" y="4648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781680" y="76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781680" y="2362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781680" y="4648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209680" y="76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233440" y="1147680"/>
            <a:ext cx="2068560" cy="1057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530600" y="1160640"/>
            <a:ext cx="2068560" cy="10569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804000" y="1143000"/>
            <a:ext cx="2087640" cy="1057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244600" y="3413160"/>
            <a:ext cx="2044800" cy="1057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500720" y="3425760"/>
            <a:ext cx="2103120" cy="1057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802560" y="3408480"/>
            <a:ext cx="2070000" cy="1057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51080" y="5678640"/>
            <a:ext cx="2044800" cy="10569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524480" y="5691240"/>
            <a:ext cx="2087280" cy="1057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16600" y="5691240"/>
            <a:ext cx="2078280" cy="1057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09680" y="4648320"/>
            <a:ext cx="53352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495680" y="4648320"/>
            <a:ext cx="53352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781680" y="4648320"/>
            <a:ext cx="53352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781440" y="2362320"/>
            <a:ext cx="53352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067440" y="2362320"/>
            <a:ext cx="53352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8353440" y="2362320"/>
            <a:ext cx="53352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09680" y="76320"/>
            <a:ext cx="53352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495680" y="76320"/>
            <a:ext cx="53352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781680" y="76320"/>
            <a:ext cx="53352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1371600"/>
            <a:ext cx="1219320" cy="9144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6320" y="289080"/>
            <a:ext cx="1981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Scoreboard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62120" y="814320"/>
            <a:ext cx="53316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2971800"/>
            <a:ext cx="1219320" cy="152388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80880" y="3581280"/>
            <a:ext cx="1219320" cy="9144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2120" y="3024360"/>
            <a:ext cx="53316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80880" y="5029200"/>
            <a:ext cx="1524240" cy="76212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Here i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 Wi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80880" y="5867280"/>
            <a:ext cx="1524240" cy="76212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Here i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 Wi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" descr="">
            <a:hlinkClick r:id="rId1"/>
          </p:cNvPr>
          <p:cNvPicPr/>
          <p:nvPr/>
        </p:nvPicPr>
        <p:blipFill>
          <a:blip r:embed="rId2">
            <a:lum contrast="6000"/>
          </a:blip>
          <a:srcRect l="0" t="0" r="-8309" b="11772"/>
          <a:stretch/>
        </p:blipFill>
        <p:spPr>
          <a:xfrm>
            <a:off x="2895480" y="0"/>
            <a:ext cx="990720" cy="11430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>
            <a:hlinkClick r:id="rId3"/>
          </p:cNvPr>
          <p:cNvPicPr/>
          <p:nvPr/>
        </p:nvPicPr>
        <p:blipFill>
          <a:blip r:embed="rId4">
            <a:lum contrast="6000"/>
          </a:blip>
          <a:srcRect l="0" t="0" r="-10602" b="38474"/>
          <a:stretch/>
        </p:blipFill>
        <p:spPr>
          <a:xfrm>
            <a:off x="5105520" y="0"/>
            <a:ext cx="931680" cy="11476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>
            <a:hlinkClick r:id="rId5"/>
          </p:cNvPr>
          <p:cNvPicPr/>
          <p:nvPr/>
        </p:nvPicPr>
        <p:blipFill>
          <a:blip r:embed="rId6">
            <a:lum contrast="6000"/>
          </a:blip>
          <a:srcRect l="0" t="0" r="0" b="30237"/>
          <a:stretch/>
        </p:blipFill>
        <p:spPr>
          <a:xfrm>
            <a:off x="6934320" y="0"/>
            <a:ext cx="1904760" cy="11430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>
            <a:hlinkClick r:id="rId7"/>
          </p:cNvPr>
          <p:cNvPicPr/>
          <p:nvPr/>
        </p:nvPicPr>
        <p:blipFill>
          <a:blip r:embed="rId8"/>
          <a:srcRect l="0" t="0" r="-3758" b="12510"/>
          <a:stretch/>
        </p:blipFill>
        <p:spPr>
          <a:xfrm>
            <a:off x="2514600" y="2362320"/>
            <a:ext cx="1219320" cy="10666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>
            <a:hlinkClick r:id="rId9"/>
          </p:cNvPr>
          <p:cNvPicPr/>
          <p:nvPr/>
        </p:nvPicPr>
        <p:blipFill>
          <a:blip r:embed="rId10"/>
          <a:srcRect l="0" t="0" r="-7744" b="36367"/>
          <a:stretch/>
        </p:blipFill>
        <p:spPr>
          <a:xfrm>
            <a:off x="5029200" y="2362320"/>
            <a:ext cx="1143000" cy="106668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>
            <a:hlinkClick r:id="rId11"/>
          </p:cNvPr>
          <p:cNvPicPr/>
          <p:nvPr/>
        </p:nvPicPr>
        <p:blipFill>
          <a:blip r:embed="rId12"/>
          <a:srcRect l="0" t="0" r="-25774" b="50108"/>
          <a:stretch/>
        </p:blipFill>
        <p:spPr>
          <a:xfrm>
            <a:off x="7369200" y="2362320"/>
            <a:ext cx="936720" cy="106668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2757600" y="4695840"/>
            <a:ext cx="1066680" cy="104148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>
            <a:hlinkClick r:id="rId15"/>
          </p:cNvPr>
          <p:cNvPicPr/>
          <p:nvPr/>
        </p:nvPicPr>
        <p:blipFill>
          <a:blip r:embed="rId16"/>
          <a:srcRect l="0" t="0" r="0" b="25000"/>
          <a:stretch/>
        </p:blipFill>
        <p:spPr>
          <a:xfrm>
            <a:off x="4876920" y="4519440"/>
            <a:ext cx="152388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>
            <a:hlinkClick r:id="rId17"/>
          </p:cNvPr>
          <p:cNvPicPr/>
          <p:nvPr/>
        </p:nvPicPr>
        <p:blipFill>
          <a:blip r:embed="rId18"/>
          <a:stretch/>
        </p:blipFill>
        <p:spPr>
          <a:xfrm>
            <a:off x="7410600" y="4695840"/>
            <a:ext cx="76824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1881360" y="139680"/>
            <a:ext cx="5010120" cy="528948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884240" y="2795760"/>
            <a:ext cx="4997520" cy="262224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881360" y="139680"/>
            <a:ext cx="776160" cy="779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28720" y="5818320"/>
            <a:ext cx="763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4/9 - 2/6 =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>
            <a:lum contrast="6000"/>
          </a:blip>
          <a:srcRect l="0" t="0" r="-8309" b="11772"/>
          <a:stretch/>
        </p:blipFill>
        <p:spPr>
          <a:xfrm>
            <a:off x="3260880" y="76320"/>
            <a:ext cx="23778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75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881360" y="139680"/>
            <a:ext cx="5010120" cy="528948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884240" y="2795760"/>
            <a:ext cx="4997520" cy="262224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881360" y="139680"/>
            <a:ext cx="776160" cy="779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8720" y="5818320"/>
            <a:ext cx="763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1/9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>
            <a:hlinkClick r:id="rId1" action="ppaction://hlinksldjump"/>
          </p:cNvPr>
          <p:cNvSpPr/>
          <p:nvPr/>
        </p:nvSpPr>
        <p:spPr>
          <a:xfrm>
            <a:off x="52560" y="6012000"/>
            <a:ext cx="1217520" cy="793440"/>
          </a:xfrm>
          <a:prstGeom prst="leftArrow">
            <a:avLst>
              <a:gd name="adj1" fmla="val 52796"/>
              <a:gd name="adj2" fmla="val 66622"/>
            </a:avLst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>
            <a:lum contrast="6000"/>
          </a:blip>
          <a:srcRect l="0" t="0" r="-8309" b="11772"/>
          <a:stretch/>
        </p:blipFill>
        <p:spPr>
          <a:xfrm>
            <a:off x="3260880" y="76320"/>
            <a:ext cx="23778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75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1893960" y="206280"/>
            <a:ext cx="4991040" cy="521964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887480" y="2859120"/>
            <a:ext cx="4944960" cy="25858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893960" y="206280"/>
            <a:ext cx="825480" cy="779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828720" y="5818320"/>
            <a:ext cx="763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18.65 / 2.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>
            <a:lum contrast="6000"/>
          </a:blip>
          <a:srcRect l="0" t="0" r="-10602" b="38474"/>
          <a:stretch/>
        </p:blipFill>
        <p:spPr>
          <a:xfrm>
            <a:off x="3581280" y="328680"/>
            <a:ext cx="204156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75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93960" y="206280"/>
            <a:ext cx="4991040" cy="521964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887480" y="2859120"/>
            <a:ext cx="4944960" cy="25858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893960" y="206280"/>
            <a:ext cx="825480" cy="779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828720" y="5818320"/>
            <a:ext cx="763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7.77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>
            <a:hlinkClick r:id="rId1" action="ppaction://hlinksldjump"/>
          </p:cNvPr>
          <p:cNvSpPr/>
          <p:nvPr/>
        </p:nvSpPr>
        <p:spPr>
          <a:xfrm>
            <a:off x="52560" y="6012000"/>
            <a:ext cx="1217520" cy="793440"/>
          </a:xfrm>
          <a:prstGeom prst="leftArrow">
            <a:avLst>
              <a:gd name="adj1" fmla="val 52796"/>
              <a:gd name="adj2" fmla="val 66622"/>
            </a:avLst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2">
            <a:lum contrast="6000"/>
          </a:blip>
          <a:srcRect l="0" t="0" r="-10602" b="38474"/>
          <a:stretch/>
        </p:blipFill>
        <p:spPr>
          <a:xfrm>
            <a:off x="3581280" y="328680"/>
            <a:ext cx="204156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75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886040" y="217440"/>
            <a:ext cx="4956120" cy="520236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05120" y="2514600"/>
            <a:ext cx="4883040" cy="25765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886040" y="217440"/>
            <a:ext cx="817560" cy="779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8080" y="5305320"/>
            <a:ext cx="7639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r. Jones is separating the school band into groups. He can put the students into either groups of 4 or groups of 9 without leaving out any students. What are the least amount of students that can be in the ban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>
            <a:lum contrast="6000"/>
          </a:blip>
          <a:srcRect l="0" t="0" r="0" b="30149"/>
          <a:stretch/>
        </p:blipFill>
        <p:spPr>
          <a:xfrm>
            <a:off x="2438280" y="152280"/>
            <a:ext cx="3886200" cy="23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75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886040" y="217440"/>
            <a:ext cx="4956120" cy="520236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903320" y="2819520"/>
            <a:ext cx="4883400" cy="25765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886040" y="217440"/>
            <a:ext cx="817560" cy="779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28720" y="5818320"/>
            <a:ext cx="763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3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>
            <a:hlinkClick r:id="rId1" action="ppaction://hlinksldjump"/>
          </p:cNvPr>
          <p:cNvSpPr/>
          <p:nvPr/>
        </p:nvSpPr>
        <p:spPr>
          <a:xfrm>
            <a:off x="52560" y="6012000"/>
            <a:ext cx="1217520" cy="793440"/>
          </a:xfrm>
          <a:prstGeom prst="leftArrow">
            <a:avLst>
              <a:gd name="adj1" fmla="val 52796"/>
              <a:gd name="adj2" fmla="val 66622"/>
            </a:avLst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>
            <a:lum contrast="6000"/>
          </a:blip>
          <a:srcRect l="0" t="0" r="0" b="30237"/>
          <a:stretch/>
        </p:blipFill>
        <p:spPr>
          <a:xfrm>
            <a:off x="2438280" y="487440"/>
            <a:ext cx="3886200" cy="233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75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18T18:50:51Z</dcterms:created>
  <dc:creator>Mark E. Damon</dc:creator>
  <dc:description/>
  <dc:language>en-US</dc:language>
  <cp:lastModifiedBy>Kevin Murphy</cp:lastModifiedBy>
  <dcterms:modified xsi:type="dcterms:W3CDTF">2008-03-21T16:52:02Z</dcterms:modified>
  <cp:revision>33</cp:revision>
  <dc:subject/>
  <dc:title>No Slide Title</dc:title>
</cp:coreProperties>
</file>